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9C9-2147-488F-9362-0606E73F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19F-E2C0-4AA4-A55E-C4EB3BE0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084-21BD-44BA-A57F-7E73FD6F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A74-4A97-47D0-9F1F-27066FBF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F4D-C836-4F14-A237-6136846F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178-1BFC-49C9-ACA6-332256B3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780-E292-42C2-8F3D-32003416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E76-DA95-420C-A1A6-AE302A76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2A7-E469-4CB5-8BCF-6A1A6453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2C5-6E1E-48C1-9751-A4DA7ACA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C3D-F60E-4CE0-B96F-C3CE4638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B4A-0CD8-4333-AE4D-8BFE8C50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B2A7-A5F5-4B2B-9803-66A949419B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36600" y="66996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2f5597"/>
                </a:solidFill>
                <a:uFillTx/>
                <a:latin typeface="Calibri"/>
              </a:rPr>
              <a:t>Вычисли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extBox 2" descr=""/>
          <p:cNvPicPr/>
          <p:nvPr/>
        </p:nvPicPr>
        <p:blipFill>
          <a:blip r:embed="rId1"/>
          <a:stretch/>
        </p:blipFill>
        <p:spPr>
          <a:xfrm>
            <a:off x="1133640" y="1560600"/>
            <a:ext cx="1139760" cy="7063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1133640" y="2457360"/>
            <a:ext cx="1384200" cy="6937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3"/>
          <a:stretch/>
        </p:blipFill>
        <p:spPr>
          <a:xfrm>
            <a:off x="1060560" y="3346560"/>
            <a:ext cx="2597040" cy="69516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7" descr=""/>
          <p:cNvPicPr/>
          <p:nvPr/>
        </p:nvPicPr>
        <p:blipFill>
          <a:blip r:embed="rId4"/>
          <a:stretch/>
        </p:blipFill>
        <p:spPr>
          <a:xfrm>
            <a:off x="4932360" y="1573200"/>
            <a:ext cx="2327400" cy="6890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8" descr=""/>
          <p:cNvPicPr/>
          <p:nvPr/>
        </p:nvPicPr>
        <p:blipFill>
          <a:blip r:embed="rId5"/>
          <a:stretch/>
        </p:blipFill>
        <p:spPr>
          <a:xfrm>
            <a:off x="4932360" y="2462040"/>
            <a:ext cx="232740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9" descr=""/>
          <p:cNvPicPr/>
          <p:nvPr/>
        </p:nvPicPr>
        <p:blipFill>
          <a:blip r:embed="rId6"/>
          <a:stretch/>
        </p:blipFill>
        <p:spPr>
          <a:xfrm>
            <a:off x="4883040" y="3346560"/>
            <a:ext cx="3273480" cy="68904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0" descr=""/>
          <p:cNvPicPr/>
          <p:nvPr/>
        </p:nvPicPr>
        <p:blipFill>
          <a:blip r:embed="rId7"/>
          <a:stretch/>
        </p:blipFill>
        <p:spPr>
          <a:xfrm>
            <a:off x="1073160" y="4237200"/>
            <a:ext cx="2590920" cy="6886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1" descr=""/>
          <p:cNvPicPr/>
          <p:nvPr/>
        </p:nvPicPr>
        <p:blipFill>
          <a:blip r:embed="rId8"/>
          <a:stretch/>
        </p:blipFill>
        <p:spPr>
          <a:xfrm>
            <a:off x="4956120" y="4230720"/>
            <a:ext cx="2322720" cy="6890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2" descr=""/>
          <p:cNvPicPr/>
          <p:nvPr/>
        </p:nvPicPr>
        <p:blipFill>
          <a:blip r:embed="rId9"/>
          <a:stretch/>
        </p:blipFill>
        <p:spPr>
          <a:xfrm>
            <a:off x="3340080" y="5114880"/>
            <a:ext cx="232236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773280" y="15289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ронза состоит из 3 частей олова и 17 частей меди. Сколько олова в бронзовой детали массой 660 г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541680" y="438120"/>
            <a:ext cx="24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73280" y="376884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месь, состоящая из 3 частей цейлонского чая и 4 частей индийского чая, имеет массу 210 г. Сколько граммов цейлонского чая в этой смес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968400" y="1042920"/>
            <a:ext cx="23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ариант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990720" y="330372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ариант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rcRect l="15979" t="5300" r="5473" b="8187"/>
          <a:stretch/>
        </p:blipFill>
        <p:spPr>
          <a:xfrm rot="17451600">
            <a:off x="7490880" y="2441520"/>
            <a:ext cx="968400" cy="850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"/>
          <p:cNvPicPr/>
          <p:nvPr/>
        </p:nvPicPr>
        <p:blipFill>
          <a:blip r:embed="rId2"/>
          <a:srcRect l="4822" t="3790" r="2475" b="8631"/>
          <a:stretch/>
        </p:blipFill>
        <p:spPr>
          <a:xfrm rot="14177400">
            <a:off x="6462720" y="2560680"/>
            <a:ext cx="1054080" cy="990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"/>
          <p:cNvPicPr/>
          <p:nvPr/>
        </p:nvPicPr>
        <p:blipFill>
          <a:blip r:embed="rId3"/>
          <a:stretch/>
        </p:blipFill>
        <p:spPr>
          <a:xfrm>
            <a:off x="3187800" y="5391000"/>
            <a:ext cx="1130040" cy="787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"/>
          <p:cNvPicPr/>
          <p:nvPr/>
        </p:nvPicPr>
        <p:blipFill>
          <a:blip r:embed="rId4"/>
          <a:srcRect l="14527" t="3313" r="14355" b="2761"/>
          <a:stretch/>
        </p:blipFill>
        <p:spPr>
          <a:xfrm>
            <a:off x="4137120" y="5218200"/>
            <a:ext cx="7426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773280" y="1308240"/>
            <a:ext cx="7772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приготовления кофейного напитка берут 7 частей кофе, 6 частей цикория, 5 частей желудей, 2 части каштанов. Сколько граммов кофе, цикория, желудей и каштанов потребуется для приготовления 800 г кофейного напит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521160" y="601560"/>
            <a:ext cx="24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6"/>
          <p:cNvGrpSpPr/>
          <p:nvPr/>
        </p:nvGrpSpPr>
        <p:grpSpPr>
          <a:xfrm>
            <a:off x="4870440" y="4051440"/>
            <a:ext cx="3605400" cy="2139840"/>
            <a:chOff x="4870440" y="4051440"/>
            <a:chExt cx="3605400" cy="2139840"/>
          </a:xfrm>
        </p:grpSpPr>
        <p:pic>
          <p:nvPicPr>
            <p:cNvPr id="63" name="Рисунок 1" descr=""/>
            <p:cNvPicPr/>
            <p:nvPr/>
          </p:nvPicPr>
          <p:blipFill>
            <a:blip r:embed="rId1"/>
            <a:srcRect l="3851" t="2929" r="0" b="1228"/>
            <a:stretch/>
          </p:blipFill>
          <p:spPr>
            <a:xfrm>
              <a:off x="6368040" y="5062680"/>
              <a:ext cx="150984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Рисунок 3" descr=""/>
            <p:cNvPicPr/>
            <p:nvPr/>
          </p:nvPicPr>
          <p:blipFill>
            <a:blip r:embed="rId2"/>
            <a:srcRect l="1650" t="9234" r="0" b="18531"/>
            <a:stretch/>
          </p:blipFill>
          <p:spPr>
            <a:xfrm>
              <a:off x="4870440" y="4940640"/>
              <a:ext cx="1656720" cy="121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Рисунок 4" descr=""/>
            <p:cNvPicPr/>
            <p:nvPr/>
          </p:nvPicPr>
          <p:blipFill>
            <a:blip r:embed="rId3"/>
            <a:srcRect l="4491" t="23351" r="43947" b="11869"/>
            <a:stretch/>
          </p:blipFill>
          <p:spPr>
            <a:xfrm>
              <a:off x="5469480" y="4051440"/>
              <a:ext cx="1508760" cy="12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Рисунок 5" descr=""/>
            <p:cNvPicPr/>
            <p:nvPr/>
          </p:nvPicPr>
          <p:blipFill>
            <a:blip r:embed="rId4"/>
            <a:srcRect l="6285" t="24198" r="9694" b="22392"/>
            <a:stretch/>
          </p:blipFill>
          <p:spPr>
            <a:xfrm>
              <a:off x="6833520" y="4161960"/>
              <a:ext cx="1642320" cy="104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Рисунок 7" descr=""/>
          <p:cNvPicPr/>
          <p:nvPr/>
        </p:nvPicPr>
        <p:blipFill>
          <a:blip r:embed="rId5"/>
          <a:stretch/>
        </p:blipFill>
        <p:spPr>
          <a:xfrm>
            <a:off x="770040" y="4780080"/>
            <a:ext cx="2046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1:49Z</dcterms:modified>
  <cp:revision>95</cp:revision>
  <dc:subject/>
  <dc:title>Презентация PowerPoint</dc:title>
</cp:coreProperties>
</file>